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042-C58B-48F7-95EA-028107B2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8DA-E758-4ADB-9AF2-DA6163EC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F94-AD96-45A4-A062-B17BD72F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B68-D4CC-4719-B11F-19DDCF63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3F3-09BE-47FC-B9D4-01BA77C4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977-6854-4FEB-AFCC-C0CB589D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4F4-9634-4CE3-BA87-480BA673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F18-2751-4970-B70D-3181BFB3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2EC-9D15-4A5C-8A82-7166FA7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F78-8B90-427C-BFD2-C4B87BB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72B-F339-48FD-BC99-41F88541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B12-8E1A-4341-85F6-7EFBED29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7A98-1A21-4FD1-A265-241EDBDA7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Choosing a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Feature article writers know a great feature article begins with a great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ff04"/>
                </a:solidFill>
                <a:latin typeface="Palatino"/>
              </a:rPr>
              <a:t>Great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are clos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are important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you already know a lot abou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need to be interesting to thei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need to b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After you have chosen your topic, ask yourself thes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Is the topic interest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ho are your readers?  Will the topic be interesting to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Is the information new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After you have chosen your topic, ask yourself thes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ill you be able to find information about your topic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hat will you want your readers to understand about your topic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a0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a06"/>
                </a:solidFill>
                <a:latin typeface="Palatino"/>
              </a:rPr>
              <a:t>What will be your purpose or big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ff04"/>
                </a:solidFill>
                <a:latin typeface="Palatino"/>
              </a:rPr>
              <a:t>With these questions in mind, make a final decision about your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3809880"/>
            <a:ext cx="7848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06"/>
                </a:solidFill>
                <a:latin typeface="Palatino"/>
              </a:rPr>
              <a:t>You need to let me know your decision as soon as possib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9:16:40Z</dcterms:created>
  <dc:creator>AAPS</dc:creator>
  <dc:description/>
  <dc:language>en-US</dc:language>
  <cp:lastModifiedBy>AAPS</cp:lastModifiedBy>
  <cp:lastPrinted>2005-10-17T16:57:31Z</cp:lastPrinted>
  <dcterms:modified xsi:type="dcterms:W3CDTF">2005-10-20T12:24:47Z</dcterms:modified>
  <cp:revision>17</cp:revision>
  <dc:subject/>
  <dc:title>Feature Article Interests and Subject</dc:title>
</cp:coreProperties>
</file>